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applause.wav" ContentType="audio/x-wav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C91-86FC-4D7B-922F-9D5541D0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B78-9B7D-4597-9A58-4F4FE231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677-DA05-41EE-A9E1-8A295D3B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714-C58D-45B5-BBDD-B06F676F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8A48-2E7F-4EC3-A056-33EAF784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C2B9-A7B7-4D9B-BF7A-2394BDE6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888A-D892-4958-B3DE-2572A595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0990-605E-4E6E-883E-7E1B795F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9F89-8EB2-48D1-8C94-0F40054B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64C5-DE24-4D96-BD3D-D2C173DE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FA8D-F1E4-4298-AEDE-7D1A1BD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74F-5B52-4248-9CAD-4BA50F95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5B9-7077-4DDB-B6A3-81437F4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1C9C-5ADB-4243-AA96-6178F53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8852-8F2B-404D-8CCE-B1D70C9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EFF6-2143-4FD2-841F-C32E5BAC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9027-F946-4C72-93E3-2366CDD9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402-2EAA-41C3-AAD2-5399109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7A8-2B85-4FF0-B4D9-8F9B7235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E93-BC12-489D-9746-A9650EEA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7A0-0742-4BE7-A163-4C83E932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02D-62A9-44F3-87AC-B00654EA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6E6-3094-44B9-A3AF-B7CBC204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73C-6BF4-4BCB-BD41-32DF6D8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095-C459-4F46-8BC5-271D792DEAFE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CA9F-E397-4655-A9C2-8E470C566DA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ovima.dolnet.gr/demo/owa/tobhma.print_unique?e=B&amp;f=12859&amp;m=B01&amp;aa=1&amp;cookie=" TargetMode="External"/><Relationship Id="rId3" Type="http://schemas.openxmlformats.org/officeDocument/2006/relationships/hyperlink" Target="http://tovima.dolnet.gr/demo/owa/tobhma.print_unique?e=B&amp;f=12859&amp;m=B01&amp;aa=1&amp;cookie=" TargetMode="External"/><Relationship Id="rId4" Type="http://schemas.openxmlformats.org/officeDocument/2006/relationships/hyperlink" Target="http://tovima.dolnet.gr/demo/owa/tobhma.print_unique?e=B&amp;f=12859&amp;m=B01&amp;aa=1&amp;cookie=" TargetMode="External"/><Relationship Id="rId5" Type="http://schemas.openxmlformats.org/officeDocument/2006/relationships/hyperlink" Target="http://tovima.dolnet.gr/demo/owa/tobhma.print_unique?e=B&amp;f=12859&amp;m=B02&amp;aa=1&amp;cookie=" TargetMode="External"/><Relationship Id="rId6" Type="http://schemas.openxmlformats.org/officeDocument/2006/relationships/hyperlink" Target="http://tovima.dolnet.gr/demo/owa/tobhma.print_unique?e=B&amp;f=12859&amp;m=B04&amp;aa=1&amp;cookie=" TargetMode="External"/><Relationship Id="rId7" Type="http://schemas.openxmlformats.org/officeDocument/2006/relationships/hyperlink" Target="http://tovima.dolnet.gr/demo/owa/tobhma.print_unique?e=B&amp;f=12859&amp;m=B05&amp;aa=1&amp;cookie=" TargetMode="External"/><Relationship Id="rId8" Type="http://schemas.openxmlformats.org/officeDocument/2006/relationships/hyperlink" Target="http://tovima.dolnet.gr/demo/owa/tobhma.print_unique?e=B&amp;f=12859&amp;m=B06&amp;aa=1&amp;cookie=" TargetMode="External"/><Relationship Id="rId9" Type="http://schemas.openxmlformats.org/officeDocument/2006/relationships/hyperlink" Target="http://tovima.dolnet.gr/demo/owa/tobhma.print_unique?e=B&amp;f=12859&amp;m=B07&amp;aa=1&amp;cookie=" TargetMode="External"/><Relationship Id="rId10" Type="http://schemas.openxmlformats.org/officeDocument/2006/relationships/hyperlink" Target="http://tovima.dolnet.gr/demo/owa/tobhma.print_unique?e=B&amp;f=12859&amp;m=B08&amp;aa=1&amp;cookie=" TargetMode="External"/><Relationship Id="rId11" Type="http://schemas.openxmlformats.org/officeDocument/2006/relationships/hyperlink" Target="http://tovima.dolnet.gr/demo/owa/tobhma.print_unique?e=B&amp;f=12859&amp;m=B10&amp;aa=1&amp;cookie=" TargetMode="External"/><Relationship Id="rId12" Type="http://schemas.openxmlformats.org/officeDocument/2006/relationships/hyperlink" Target="http://tovima.dolnet.gr/demo/owa/tobhma.print_unique?e=B&amp;f=12859&amp;m=B11&amp;aa=1&amp;cookie=" TargetMode="External"/><Relationship Id="rId13" Type="http://schemas.openxmlformats.org/officeDocument/2006/relationships/hyperlink" Target="http://tovima.dolnet.gr/demo/owa/tobhma.print_unique?e=B&amp;f=12859&amp;m=B12&amp;aa=1&amp;cookie=" TargetMode="External"/><Relationship Id="rId14" Type="http://schemas.openxmlformats.org/officeDocument/2006/relationships/hyperlink" Target="http://tovima.dolnet.gr/demo/owa/tobhma.print_unique?e=B&amp;f=12859&amp;m=B14&amp;aa=1&amp;cookie=" TargetMode="External"/><Relationship Id="rId15" Type="http://schemas.openxmlformats.org/officeDocument/2006/relationships/hyperlink" Target="http://tovima.dolnet.gr/demo/owa/tobhma.print_unique?e=B&amp;f=12859&amp;m=B15&amp;aa=1&amp;cookie=" TargetMode="External"/><Relationship Id="rId16" Type="http://schemas.openxmlformats.org/officeDocument/2006/relationships/hyperlink" Target="http://tovima.dolnet.gr/demo/owa/tobhma.print_unique?e=B&amp;f=12859&amp;m=B15&amp;aa=1&amp;cookie=" TargetMode="External"/><Relationship Id="rId17" Type="http://schemas.openxmlformats.org/officeDocument/2006/relationships/hyperlink" Target="http://tovima.dolnet.gr/demo/owa/tobhma.print_unique?e=B&amp;f=12859&amp;m=B18&amp;aa=1&amp;cookie=" TargetMode="External"/><Relationship Id="rId18" Type="http://schemas.openxmlformats.org/officeDocument/2006/relationships/hyperlink" Target="http://tovima.dolnet.gr/demo/owa/tobhma.print_unique?e=B&amp;f=12859&amp;m=B20&amp;aa=1&amp;cookie=" TargetMode="External"/><Relationship Id="rId19" Type="http://schemas.openxmlformats.org/officeDocument/2006/relationships/hyperlink" Target="http://tovima.dolnet.gr/demo/owa/tobhma.print_unique?e=B&amp;f=12859&amp;m=B22&amp;aa=1&amp;cookie=" TargetMode="External"/><Relationship Id="rId20" Type="http://schemas.openxmlformats.org/officeDocument/2006/relationships/hyperlink" Target="http://tovima.dolnet.gr/demo/owa/tobhma.print_unique?e=B&amp;f=12859&amp;m=B23&amp;aa=1&amp;cookie=" TargetMode="External"/><Relationship Id="rId21" Type="http://schemas.openxmlformats.org/officeDocument/2006/relationships/hyperlink" Target="http://tovima.dolnet.gr/demo/owa/tobhma.print_unique?e=B&amp;f=12859&amp;m=B24&amp;aa=1&amp;cookie=" TargetMode="External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tovima.dolnet.gr/demo/owa/tobhma.print_unique?e=B&amp;f=12859&amp;m=B12&amp;aa=1&amp;cookie=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tovima.dolnet.gr/demo/owa/tobhma.print_unique?e=B&amp;f=12859&amp;m=B04&amp;aa=1&amp;cookie=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tovima.dolnet.gr/demo/owa/tobhma.print_unique?e=B&amp;f=12859&amp;m=B02&amp;aa=1&amp;cookie=" TargetMode="External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5241"/>
                </a:solidFill>
                <a:latin typeface="UB-Helvetica"/>
              </a:rPr>
              <a:t>Εαρινή Προσέγγιση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UB-Helvetica"/>
              </a:rPr>
              <a:t>100 </a:t>
            </a:r>
            <a:r>
              <a:rPr b="1" lang="el-GR" sz="2800" spc="-1" strike="noStrike">
                <a:solidFill>
                  <a:srgbClr val="463634"/>
                </a:solidFill>
                <a:latin typeface="UB-Helvetica"/>
              </a:rPr>
              <a:t>χρόνια Σεφέρη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299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4297320" cy="402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1066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3040" y="1197000"/>
            <a:ext cx="4406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Η Δευτέρα του Σεφέρη Παρουσία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ΑΝΟΛΗΣ ΣΑΒΒΙΔΗ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809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ΑΦΙΕΡΩΜΑ του ΒΗΜΑΤΟΣ 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l-GR" sz="20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27-2-2000 : Γ. Σεφέρης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Η Ποιητική του Σεφέρη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. Ν. ΜΑΡΩΝΙΤΗΣ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Ο έγκλειστος ήρωας φτερουγίζε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ΩΡΓΗΣ ΓΙΑΤΡΟΜΑΝΩΛΑΚΗΣ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7"/>
              </a:rPr>
              <a:t>Η αναζήτηση του «εγώ» στο ημερολόγιο του ποιητή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ΛΕΞΑΝΔΡΑ ΣΑΜΟΥΗΛ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8"/>
              </a:rPr>
              <a:t>Μπροστά στα ιδεολογικά αδιέξοδα του Μεσοπολέμου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. ΠΑΠΑΖΟΓΛΟΥ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9"/>
              </a:rPr>
              <a:t>Ποίηση και πολιτική: ο επώδυνος διχασμό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. ΑΡΓΥΡΙΟΥ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0"/>
              </a:rPr>
              <a:t>Η παρουσία του στο έργο των ποιητών της μεταπολεμικής γενιά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. ΑΡΑΓΗΣ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1"/>
              </a:rPr>
              <a:t>Ο Σεφέρης και η πρώτη μεταπολεμική γενιά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ΩΡΑ ΜΕΝΤΗ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2"/>
              </a:rPr>
              <a:t>Οι δεσμοί με τους οργισμένους ποιητές του '70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Υ. ΓΑΡΑΝΤΟΥΔΗΣ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3"/>
              </a:rPr>
              <a:t>Ο άρχοντας τής γλώσσα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. ΜΠΑΜΠΙΝΙΩΤΗΣ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4"/>
              </a:rPr>
              <a:t>Σαλπάροντας ένα βράδυ από την Ακρόπολη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ΡΗΣ ΜΑΡΑΓΚΟΠΟΥΛΟΣ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5"/>
              </a:rPr>
              <a:t>Εφερε</a:t>
            </a: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6"/>
              </a:rPr>
              <a:t> την ελληνική γραφή σε τόπους ξένους...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Ι. ΣΤΑΘΑΤΟΣ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7"/>
              </a:rPr>
              <a:t>Η αναζήτηση μιας ποιητικής θεωρία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Ν. ΒΑΓΕΝΑΣ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8"/>
              </a:rPr>
              <a:t>Ο ποιητής μου φορούσε κίτρινα πάνινα παπούτσια...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ΝΟΡΑ ΑΝΑΓΝΩΣΤΑΚΗ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19"/>
              </a:rPr>
              <a:t>Η τεχνική της παρωδίας στο έργο του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ΤΕΡΙΝΑ ΚΩΣΤΙΟΥ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20"/>
              </a:rPr>
              <a:t>«Ζωγράφιζε» την ποίηση σε όλες τις γλώσσε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ΑΡΙΑ ΤΣΟΥΤΣΟΥΡΑ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 u="sng">
                <a:solidFill>
                  <a:srgbClr val="393a18"/>
                </a:solidFill>
                <a:uFillTx/>
                <a:latin typeface="Times New Roman"/>
                <a:hlinkClick r:id="rId21"/>
              </a:rPr>
              <a:t>Η Δευτέρα του Σεφέρη Παρουσία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ΑΝΟΛΗΣ ΣΑΒΒΙΔΗΣ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6732360" cy="49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838080" y="5283360"/>
          <a:ext cx="6096240" cy="1574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463634"/>
                          </a:solidFill>
                          <a:latin typeface="UB-Helvetica"/>
                        </a:rPr>
                        <a:t>Με τα χρώματα του Σεφέρη…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463634"/>
                          </a:solidFill>
                          <a:latin typeface="UB-Helvetica"/>
                        </a:rPr>
                        <a:t>Έργα του Γ. Ψυχοπαίδη εμπνευσμένα από τις συλλογές του ποιητή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4499280" cy="5583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6021360"/>
            <a:ext cx="4140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Ο άρχοντας της γλώσσας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Γ. ΜΠΑΜΠΙΝΙΩΤΗ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3476520" cy="5514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284720" y="551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6021360"/>
            <a:ext cx="466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Ο έγκλειστος ήρωας φτερουγίζει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ΓΙΩΡΓΗΣ ΓΙΑΤΡΟΜΑΝΩΛΑΚΗ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5220000" cy="398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74880" y="5375160"/>
            <a:ext cx="557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1040" y="5229360"/>
            <a:ext cx="569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Η Ποιητική του Σεφέρη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Δ. Ν. ΜΑΡΩΝΙΤΗ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314880" cy="404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8280" y="4648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80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1989000"/>
            <a:ext cx="28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Η αναζήτηση του «εγώ» στο ημερολόγιο του ποιητή ΑΛΕΞΑΝΔΡΑ ΣΑΜΟΥΗ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97040" cy="438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038480" y="2971800"/>
            <a:ext cx="3063960" cy="347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373720"/>
            <a:ext cx="3995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Σαλπάροντας ένα βράδυ από την Ακρόπολη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ΡΗΣ ΜΑΡΑΓΚΟΠΟΥΛΟ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3276720" cy="426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08360" y="98100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63634"/>
                </a:solidFill>
                <a:latin typeface="Times New Roman"/>
              </a:rPr>
              <a:t>Δευτέρα, </a:t>
            </a:r>
            <a:r>
              <a:rPr b="0" i="1" lang="el-GR" sz="2400" spc="-1" strike="noStrike">
                <a:solidFill>
                  <a:srgbClr val="463634"/>
                </a:solidFill>
                <a:latin typeface="Times New Roman"/>
              </a:rPr>
              <a:t>16 Φεβρουαρίου 1925</a:t>
            </a:r>
            <a:r>
              <a:rPr b="0" lang="el-GR" sz="2400" spc="-1" strike="noStrike">
                <a:solidFill>
                  <a:srgbClr val="463634"/>
                </a:solidFill>
                <a:latin typeface="Times New Roman"/>
              </a:rPr>
              <a:t>: «Στις εφτά το πρωί, το "Pierre Loti" άραξε στον Πειραιά: Ελλάδα. Τον περασμένο Ιούλιο έκλεισαν έξι χρόνια ξενιτιά, χωρίς διακοπή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365720"/>
            <a:ext cx="46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63634"/>
                </a:solidFill>
                <a:latin typeface="Times New Roman"/>
              </a:rPr>
              <a:t>Η μάνα μου περίμενε στο μουράγιο· είπε, </a:t>
            </a:r>
            <a:r>
              <a:rPr b="0" i="1" lang="el-GR" sz="2400" spc="-1" strike="noStrike">
                <a:solidFill>
                  <a:srgbClr val="463634"/>
                </a:solidFill>
                <a:latin typeface="Times New Roman"/>
              </a:rPr>
              <a:t>Νυν απολύοις</a:t>
            </a:r>
            <a:r>
              <a:rPr b="0" lang="el-GR" sz="2400" spc="-1" strike="noStrike">
                <a:solidFill>
                  <a:srgbClr val="463634"/>
                </a:solidFill>
                <a:latin typeface="Times New Roman"/>
              </a:rPr>
              <a:t>. Ελλάδα· η αναπόφευκτη δοκιμασία. Ηταν σωστό να μην μπορεί να γίνει αλλιώς»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4797360"/>
            <a:ext cx="669456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ποιητής μου φορούσε κίτρινα πάνινα παπούτσια..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ΟΡΑ ΑΝΑΓΝΩΣΤΑΚΗ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69228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5:54:38Z</dcterms:created>
  <dc:creator>T.G.</dc:creator>
  <dc:description/>
  <dc:language>en-US</dc:language>
  <cp:lastModifiedBy>userd19</cp:lastModifiedBy>
  <dcterms:modified xsi:type="dcterms:W3CDTF">2003-10-14T07:35:10Z</dcterms:modified>
  <cp:revision>44</cp:revision>
  <dc:subject/>
  <dc:title>Εαρινή Προσέγγιση</dc:title>
</cp:coreProperties>
</file>