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543-BB87-4E09-966D-1E562D54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6B77-6EC4-4F30-88F7-2E131165A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A24-0152-404E-83E6-AC790601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E427-3C35-4F04-A6D6-14C4C013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02269-636A-4930-9BB7-7D059036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B9EC-B7F5-4F25-90DE-4B73D165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F2BD-48CD-4757-AAF0-A2A17521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D8CE-F7FF-467B-B0CE-F0163D7ED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7C19-3AD9-4C39-A5A6-B99B2CC3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2F70-0D3F-4231-AF7F-BCC99F06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3DCC-AA02-43B9-82AC-BB241358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B6E8-734F-42BC-B661-B7DB5C09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2D77-3E20-4BE6-A0F1-86EE9E8A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C3C9-649A-4021-B727-79D4F47E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8690-0113-463D-BAA2-CA8987E6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5A487-0F09-4661-B823-ABA246CDC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BC2B-4684-40E3-892C-E593CB86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0647-5A06-4518-91B7-EFEEA532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37C-808F-4D48-86FB-EC7F7EEE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696C-3246-4B2F-9E9E-CDBACBFF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77C-8150-435F-9C68-E1CE8D25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740-426B-4A0A-8DBA-03CF69C8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2B7-64A8-4060-B094-708D903B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0E16-6E10-46F1-B39B-C9EF441F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1628-CB02-4F94-806E-AB1AC89AA777}" type="slidenum">
              <a:rPr b="0" lang="el-G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DFB0-968F-4C9A-8EA0-8BA47E8D9D78}" type="slidenum">
              <a:rPr b="0" lang="el-G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nhell.gr/abibl.html" TargetMode="External"/><Relationship Id="rId2" Type="http://schemas.openxmlformats.org/officeDocument/2006/relationships/hyperlink" Target="http://www.ekebi.gr/greek.html" TargetMode="External"/><Relationship Id="rId3" Type="http://schemas.openxmlformats.org/officeDocument/2006/relationships/hyperlink" Target="file:///amazoncavafy.doc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history.arch.uoa.gr/hellenicstudies" TargetMode="External"/><Relationship Id="rId2" Type="http://schemas.openxmlformats.org/officeDocument/2006/relationships/hyperlink" Target="http://history.arch.uoa.gr/hellenicstudies" TargetMode="External"/><Relationship Id="rId3" Type="http://schemas.openxmlformats.org/officeDocument/2006/relationships/hyperlink" Target="http://history.arch.uoa.gr/hellenicstudies" TargetMode="External"/><Relationship Id="rId4" Type="http://schemas.openxmlformats.org/officeDocument/2006/relationships/hyperlink" Target="http://history.arch.uoa.gr/hellenicstudies" TargetMode="External"/><Relationship Id="rId5" Type="http://schemas.openxmlformats.org/officeDocument/2006/relationships/hyperlink" Target="http://history.arch.uoa.gr/hellenicstudies" TargetMode="External"/><Relationship Id="rId6" Type="http://schemas.openxmlformats.org/officeDocument/2006/relationships/hyperlink" Target="http://history.arch.uoa.gr/hellenicstudies" TargetMode="External"/><Relationship Id="rId7" Type="http://schemas.openxmlformats.org/officeDocument/2006/relationships/hyperlink" Target="http://history.arch.uoa.gr/hellenicstudies" TargetMode="External"/><Relationship Id="rId8" Type="http://schemas.openxmlformats.org/officeDocument/2006/relationships/hyperlink" Target="http://history.arch.uoa.gr/hellenicstudies" TargetMode="External"/><Relationship Id="rId9" Type="http://schemas.openxmlformats.org/officeDocument/2006/relationships/hyperlink" Target="http://history.arch.uoa.gr/hellenicstudies" TargetMode="External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lsa.umich.edu/modgreek" TargetMode="External"/><Relationship Id="rId2" Type="http://schemas.openxmlformats.org/officeDocument/2006/relationships/hyperlink" Target="http://www.lsa.umich.edu/modgreek" TargetMode="External"/><Relationship Id="rId3" Type="http://schemas.openxmlformats.org/officeDocument/2006/relationships/hyperlink" Target="http://www.lsa.umich.edu/modgreek" TargetMode="External"/><Relationship Id="rId4" Type="http://schemas.openxmlformats.org/officeDocument/2006/relationships/hyperlink" Target="http://www.lsa.umich.edu/modgreek" TargetMode="External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lsa.umich.edu/kelsey/galleries/exhibits/cavafy/cavafy.html" TargetMode="External"/><Relationship Id="rId2" Type="http://schemas.openxmlformats.org/officeDocument/2006/relationships/hyperlink" Target="http://www.lsa.umich.edu/kelsey/galleries/exhibits/cavafy/cavafy.html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71640" y="3357360"/>
            <a:ext cx="74023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4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l-GR" sz="3200" spc="-1" strike="noStrike">
                <a:solidFill>
                  <a:srgbClr val="ffffff"/>
                </a:solidFill>
                <a:latin typeface="Times New Roman"/>
              </a:rPr>
              <a:t>Μία διδακτική πρόταση στο μάθημα της Λογοτεχνίας με τη χρήση του διαδικτύου </a:t>
            </a:r>
            <a:br>
              <a:rPr sz="6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20640"/>
            <a:ext cx="7777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Tahoma"/>
                <a:ea typeface="Times New Roman"/>
              </a:rPr>
              <a:t>Ο Κ.Π.Καβάφης ταξιδεύει στο διαδίκτυ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η επίδραση της προσφοράς του και η απήχηση του έργου του στο εξωτερικ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54100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Διαπιστώσατε από την έρευνά σας το εύρος της απήχησης του Καβαφικού έργου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ffffff"/>
                </a:solidFill>
                <a:latin typeface="Arial"/>
                <a:ea typeface="Arial"/>
              </a:rPr>
              <a:t>Ετοιμάστε μία παρουσίαση των ευρημάτων σας στην τάξη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ffffff"/>
                </a:solidFill>
                <a:latin typeface="Times New Roman"/>
              </a:rPr>
              <a:t>Απολογισμός τερπνών και ωφελίμων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Πρόσβαση σε πλούσιο υλικό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Ενεργοποίηση του μαθητή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Ανάπτυξη δεξιοτήτων με αποτελεσματικότερο και ελκυστικότερο τρόπο χάρη στην εποπτικότητα του μέσου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ffffff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Αναζήτηση και επεξεργασία της πληροφορίας με τρόπο που αναπτύσσεται και καλλιεργείται πνεύμα συνεργασίας (συνεργατική μάθηση)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imes New Roman"/>
              </a:rPr>
              <a:t>Ας ερευνήσουμε μαζί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Τη βιβλιογραφία του Καβάφη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Στο Σπουδαστήριο Νέου Ελληνισμο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Στο Εθνικό Κέντρο Βιβλίο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999900"/>
                </a:solidFill>
                <a:uFillTx/>
                <a:latin typeface="Arial"/>
                <a:hlinkClick r:id="rId3"/>
              </a:rPr>
              <a:t>Σε ένα δικτυακό βιβλιοπωλείο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Σε πόσες γλώσσες έχει μεταφραστεί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imes New Roman"/>
              </a:rPr>
              <a:t>Ας ερευνήσουμε μαζί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Πόσες έδρες ΝΕ λογοτεχνίας εξετάζουν το έργο του Καβάφη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Μπορούμε να αξιοποιήσουμε το ε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ρευνητικό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π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ρόγραμμα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l-GR" sz="3100" spc="-1" strike="noStrike" u="sng">
                <a:solidFill>
                  <a:srgbClr val="999900"/>
                </a:solidFill>
                <a:uFillTx/>
                <a:latin typeface="Arial"/>
                <a:hlinkClick r:id="rId1"/>
              </a:rPr>
              <a:t>«</a:t>
            </a: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2"/>
              </a:rPr>
              <a:t>Ελληνικές</a:t>
            </a: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3"/>
              </a:rPr>
              <a:t> </a:t>
            </a: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4"/>
              </a:rPr>
              <a:t>Σπουδές</a:t>
            </a: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5"/>
              </a:rPr>
              <a:t> </a:t>
            </a: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6"/>
              </a:rPr>
              <a:t>στο</a:t>
            </a: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7"/>
              </a:rPr>
              <a:t> </a:t>
            </a:r>
            <a:r>
              <a:rPr b="0" lang="en-US" sz="3100" spc="-1" strike="noStrike" u="sng">
                <a:solidFill>
                  <a:srgbClr val="999900"/>
                </a:solidFill>
                <a:uFillTx/>
                <a:latin typeface="Arial"/>
                <a:hlinkClick r:id="rId8"/>
              </a:rPr>
              <a:t>Διαδίκτυο</a:t>
            </a:r>
            <a:r>
              <a:rPr b="0" lang="el-GR" sz="3100" spc="-1" strike="noStrike" u="sng">
                <a:solidFill>
                  <a:srgbClr val="999900"/>
                </a:solidFill>
                <a:uFillTx/>
                <a:latin typeface="Arial"/>
                <a:hlinkClick r:id="rId9"/>
              </a:rPr>
              <a:t>»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 u="sng">
                <a:solidFill>
                  <a:srgbClr val="999900"/>
                </a:solidFill>
                <a:uFillTx/>
                <a:latin typeface="Times New Roman"/>
                <a:hlinkClick r:id="rId1"/>
              </a:rPr>
              <a:t>Πανεπιστήμιο </a:t>
            </a:r>
            <a:r>
              <a:rPr b="0" lang="en-US" sz="40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Mishigan</a:t>
            </a:r>
            <a:r>
              <a:rPr b="0" lang="en-US" sz="4000" spc="-1" strike="noStrike" u="sng">
                <a:solidFill>
                  <a:srgbClr val="999900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l-GR" sz="4000" spc="-1" strike="noStrike" u="sng">
                <a:solidFill>
                  <a:srgbClr val="999900"/>
                </a:solidFill>
                <a:uFillTx/>
                <a:latin typeface="Times New Roman"/>
                <a:hlinkClick r:id="rId4"/>
              </a:rPr>
              <a:t>Έδρα Κ.Π.  Καβάφ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1476360" y="3068640"/>
            <a:ext cx="62658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999900"/>
                </a:solidFill>
                <a:uFillTx/>
                <a:latin typeface="Times New Roman"/>
                <a:hlinkClick r:id="rId1"/>
              </a:rPr>
              <a:t>Cavafy’s</a:t>
            </a:r>
            <a:r>
              <a:rPr b="0" lang="en-US" sz="4400" spc="-1" strike="noStrike" u="sng">
                <a:solidFill>
                  <a:srgbClr val="999900"/>
                </a:solidFill>
                <a:uFillTx/>
                <a:latin typeface="Times New Roman"/>
                <a:hlinkClick r:id="rId2"/>
              </a:rPr>
              <a:t> worl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847880" y="2200320"/>
            <a:ext cx="55245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imes New Roman"/>
              </a:rPr>
              <a:t>Ας ερευνήσουμε μαζί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Μπορούμε ακόμη σε μία μηχανή αναζήτησης να αναζητήσουμε τους όρους «Studies in modern greek literature and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vafy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»  και να εκτιμήσουμε το αποτέλεσμα της αναζήτησης.</a:t>
            </a:r>
            <a:br>
              <a:rPr sz="3100"/>
            </a:b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imes New Roman"/>
              </a:rPr>
              <a:t>Ας ερευνήσουμε μαζί 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Ας αποτολμήσουμε μία ελεύθερη αναζήτηση σε μία μηχανή δίνοντας όρους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vafy, Kavafis, 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Κ.Π.Καβάφης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Πόσες σελίδες εμφανίζονται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imes New Roman"/>
              </a:rPr>
              <a:t>Ας ερευνήσουμε μαζί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0400" indent="-59040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100" spc="-1" strike="noStrike">
                <a:solidFill>
                  <a:srgbClr val="ffffff"/>
                </a:solidFill>
                <a:latin typeface="Arial"/>
              </a:rPr>
              <a:t>Στα αρχεία των εφημερίδων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Το ΒΗΜΑ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ΤΑ ΝΕΑ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ΕΛΕΥΘΕΡΟΤΥΠΙΑ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666699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ΑΥΓΗ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952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l-GR" sz="2600" spc="-1" strike="noStrike">
                <a:solidFill>
                  <a:srgbClr val="ffffff"/>
                </a:solidFill>
                <a:latin typeface="Arial"/>
              </a:rPr>
              <a:t>Ποιες και πόσες φράσεις του Καβάφη χρησιμοποιούνται στο δημοσιογραφικό λόγο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Σαν έτοιμος καιρό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Ήδη θα το κατάλαβες οι Ιθάκες τι σημαίνου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Αποχαιρέτα την, την Αλεξάνδρεια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Ώστε ανελλήνιστοι δεν είμεθα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Καινούργιους τόπους δε θα βρεις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Μνήμη μου, φύλαξέ τα συ ως ήσαν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Εδώ που έφθασες, λίγο δεν είναι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ffffff"/>
                </a:solidFill>
                <a:latin typeface="Arial"/>
              </a:rPr>
              <a:t>Τι θα γένουμε δίχως βαρβάρους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ffff"/>
                </a:solidFill>
                <a:latin typeface="Times New Roman"/>
              </a:rPr>
              <a:t>Εκόμισα εις την τέχν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6:41:39Z</dcterms:created>
  <dc:creator>Your User Name</dc:creator>
  <dc:description/>
  <dc:language>en-US</dc:language>
  <cp:lastModifiedBy>Theresa Yiakoumatou</cp:lastModifiedBy>
  <dcterms:modified xsi:type="dcterms:W3CDTF">2003-03-09T10:39:44Z</dcterms:modified>
  <cp:revision>12</cp:revision>
  <dc:subject/>
  <dc:title> Μία διδακτική πρόταση στο μάθημα της Λογοτεχνίας με τη χρήση του διαδικτύου  </dc:title>
</cp:coreProperties>
</file>