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chimes.wav" ContentType="audio/x-wav"/>
  <Override PartName="/ppt/media/image8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6096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23880" y="3851640"/>
            <a:ext cx="6096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2974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980720"/>
            <a:ext cx="2974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880" y="3851640"/>
            <a:ext cx="2974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3851640"/>
            <a:ext cx="2974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196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85240" y="1980720"/>
            <a:ext cx="196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46240" y="1980720"/>
            <a:ext cx="196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523880" y="3851640"/>
            <a:ext cx="196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85240" y="3851640"/>
            <a:ext cx="196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646240" y="3851640"/>
            <a:ext cx="196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2974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600" y="1980720"/>
            <a:ext cx="2974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23880" y="11426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2974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980720"/>
            <a:ext cx="2974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523880" y="3851640"/>
            <a:ext cx="2974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5238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2974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980720"/>
            <a:ext cx="2974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47600" y="3851640"/>
            <a:ext cx="2974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2974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980720"/>
            <a:ext cx="2974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3851640"/>
            <a:ext cx="6096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6096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523880" y="3851640"/>
            <a:ext cx="6096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2974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980720"/>
            <a:ext cx="2974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3880" y="3851640"/>
            <a:ext cx="2974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47600" y="3851640"/>
            <a:ext cx="2974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196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85240" y="1980720"/>
            <a:ext cx="196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46240" y="1980720"/>
            <a:ext cx="196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523880" y="3851640"/>
            <a:ext cx="196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85240" y="3851640"/>
            <a:ext cx="196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46240" y="3851640"/>
            <a:ext cx="1962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2974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980720"/>
            <a:ext cx="2974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523880" y="11426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2974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980720"/>
            <a:ext cx="2974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523880" y="3851640"/>
            <a:ext cx="2974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2974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980720"/>
            <a:ext cx="2974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3851640"/>
            <a:ext cx="2974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2974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980720"/>
            <a:ext cx="2974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3880" y="3851640"/>
            <a:ext cx="6096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91960" y="398520"/>
            <a:ext cx="8558280" cy="6065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8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291960" y="398520"/>
            <a:ext cx="8558280" cy="60656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i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349"/>
              </a:spcBef>
              <a:buClr>
                <a:srgbClr val="99cc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349"/>
              </a:spcBef>
              <a:buClr>
                <a:srgbClr val="99cc00"/>
              </a:buClr>
              <a:buFont typeface="Century Gothic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users.thess.sch.gr/thomalekos/mesdiatrofi.htm" TargetMode="External"/><Relationship Id="rId3" Type="http://schemas.openxmlformats.org/officeDocument/2006/relationships/hyperlink" Target="http://www.fage.gr/page/default.asp?la=1&amp;id=768" TargetMode="External"/><Relationship Id="rId4" Type="http://schemas.openxmlformats.org/officeDocument/2006/relationships/hyperlink" Target="http://www.gourmed.gr/greek/mediterranean-diet/health/show.asp?gid=3&amp;nodeid=89&amp;arid=6961" TargetMode="External"/><Relationship Id="rId5" Type="http://schemas.openxmlformats.org/officeDocument/2006/relationships/hyperlink" Target="http://www.barbastathis.com/articles.html" TargetMode="External"/><Relationship Id="rId6" Type="http://schemas.openxmlformats.org/officeDocument/2006/relationships/hyperlink" Target="http://www.testfood.gr/MESOGEIAKH%20DIAITA.htm" TargetMode="External"/><Relationship Id="rId7" Type="http://schemas.openxmlformats.org/officeDocument/2006/relationships/hyperlink" Target="http://www.testfood.gr/MESOGEIAKH%20DIAITA.htm" TargetMode="External"/><Relationship Id="rId8" Type="http://schemas.openxmlformats.org/officeDocument/2006/relationships/hyperlink" Target="http://www.6gymnasio.gr/ACTIVITIES/math_ergasies/ygeia_diatrofi/ygeia_diatr.htm" TargetMode="External"/><Relationship Id="rId9" Type="http://schemas.openxmlformats.org/officeDocument/2006/relationships/hyperlink" Target="http://www.hfo.gr/4.htm" TargetMode="External"/><Relationship Id="rId10" Type="http://schemas.openxmlformats.org/officeDocument/2006/relationships/hyperlink" Target="http://3dim-aridaias.pel.sch.gr/diatrofi_ergasia.htm#n" TargetMode="External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testfood.gr/MESOGEIAKH%20DIAITA.htm" TargetMode="External"/><Relationship Id="rId3" Type="http://schemas.openxmlformats.org/officeDocument/2006/relationships/hyperlink" Target="http://users.thess.sch.gr/thomalekos/mesdiatrofi.htm" TargetMode="External"/><Relationship Id="rId4" Type="http://schemas.openxmlformats.org/officeDocument/2006/relationships/hyperlink" Target="http://www.fage.gr/page/default.asp?la=1&amp;id=768" TargetMode="External"/><Relationship Id="rId5" Type="http://schemas.openxmlformats.org/officeDocument/2006/relationships/hyperlink" Target="http://www.gourmed.gr/greek/mediterranean-diet/health/show.asp?gid=3&amp;nodeid=89&amp;arid=6961" TargetMode="External"/><Relationship Id="rId6" Type="http://schemas.openxmlformats.org/officeDocument/2006/relationships/hyperlink" Target="http://www.barbastathis.com/articles.html" TargetMode="External"/><Relationship Id="rId7" Type="http://schemas.openxmlformats.org/officeDocument/2006/relationships/hyperlink" Target="http://www.elais.gr/kitchen.jsp?ID=66" TargetMode="External"/><Relationship Id="rId8" Type="http://schemas.openxmlformats.org/officeDocument/2006/relationships/hyperlink" Target="http://www.elais.gr/kitchen.jsp?ID=67" TargetMode="External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testfood.gr/MESOGEIAKH%20DIAITA.htm" TargetMode="External"/><Relationship Id="rId3" Type="http://schemas.openxmlformats.org/officeDocument/2006/relationships/hyperlink" Target="http://users.thess.sch.gr/thomalekos/mesdiatrofi.htm" TargetMode="External"/><Relationship Id="rId4" Type="http://schemas.openxmlformats.org/officeDocument/2006/relationships/hyperlink" Target="http://www.fage.gr/page/default.asp?la=1&amp;id=768" TargetMode="External"/><Relationship Id="rId5" Type="http://schemas.openxmlformats.org/officeDocument/2006/relationships/hyperlink" Target="http://www.gourmed.gr/greek/mediterranean-diet/health/show.asp?gid=3&amp;nodeid=89&amp;arid=6961" TargetMode="External"/><Relationship Id="rId6" Type="http://schemas.openxmlformats.org/officeDocument/2006/relationships/hyperlink" Target="http://www.barbastathis.com/articles.html" TargetMode="External"/><Relationship Id="rId7" Type="http://schemas.openxmlformats.org/officeDocument/2006/relationships/hyperlink" Target="http://www.elais.gr/kitchen.jsp?ID=83" TargetMode="External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users.thess.sch.gr/thomalekos/mesdiatrofi.htm" TargetMode="External"/><Relationship Id="rId3" Type="http://schemas.openxmlformats.org/officeDocument/2006/relationships/hyperlink" Target="http://www.fage.gr/page/default.asp?la=1&amp;id=768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testfood.gr/MESOGEIAKH%20DIAITA.htm" TargetMode="External"/><Relationship Id="rId3" Type="http://schemas.openxmlformats.org/officeDocument/2006/relationships/hyperlink" Target="http://users.thess.sch.gr/thomalekos/mesdiatrofi.htm" TargetMode="External"/><Relationship Id="rId4" Type="http://schemas.openxmlformats.org/officeDocument/2006/relationships/hyperlink" Target="http://www.fage.gr/page/default.asp?la=1&amp;id=768" TargetMode="External"/><Relationship Id="rId5" Type="http://schemas.openxmlformats.org/officeDocument/2006/relationships/hyperlink" Target="http://www.gourmed.gr/greek/mediterranean-diet/health/show.asp?gid=3&amp;nodeid=89&amp;arid=6961" TargetMode="External"/><Relationship Id="rId6" Type="http://schemas.openxmlformats.org/officeDocument/2006/relationships/hyperlink" Target="http://www.barbastathis.com/articles.html" TargetMode="External"/><Relationship Id="rId7" Type="http://schemas.openxmlformats.org/officeDocument/2006/relationships/hyperlink" Target="http://www.elais.gr/kitchen.jsp?ID=62" TargetMode="External"/><Relationship Id="rId8" Type="http://schemas.openxmlformats.org/officeDocument/2006/relationships/hyperlink" Target="http://www.elais.gr/kitchen.jsp?ID=61" TargetMode="Externa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testfood.gr/MESOGEIAKH%20DIAITA.htm" TargetMode="External"/><Relationship Id="rId3" Type="http://schemas.openxmlformats.org/officeDocument/2006/relationships/hyperlink" Target="http://users.thess.sch.gr/thomalekos/mesdiatrofi.htm" TargetMode="External"/><Relationship Id="rId4" Type="http://schemas.openxmlformats.org/officeDocument/2006/relationships/hyperlink" Target="http://www.fage.gr/page/default.asp?la=1&amp;id=768" TargetMode="External"/><Relationship Id="rId5" Type="http://schemas.openxmlformats.org/officeDocument/2006/relationships/hyperlink" Target="http://www.gourmed.gr/greek/mediterranean-diet/health/show.asp?gid=3&amp;nodeid=89&amp;arid=6961" TargetMode="External"/><Relationship Id="rId6" Type="http://schemas.openxmlformats.org/officeDocument/2006/relationships/hyperlink" Target="http://www.barbastathis.com/articles.html" TargetMode="External"/><Relationship Id="rId7" Type="http://schemas.openxmlformats.org/officeDocument/2006/relationships/hyperlink" Target="http://www.elais.gr/kitchen.jsp?ID=52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00400" y="762120"/>
            <a:ext cx="2743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Century Gothic"/>
              </a:rPr>
              <a:t>H </a:t>
            </a:r>
            <a:endParaRPr b="0" lang="en-US" sz="8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3068640"/>
            <a:ext cx="720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200" spc="-1" strike="noStrike">
                <a:solidFill>
                  <a:srgbClr val="000000"/>
                </a:solidFill>
                <a:latin typeface="Century Gothic"/>
              </a:rPr>
              <a:t>της τροφής</a:t>
            </a:r>
            <a:r>
              <a:rPr b="0" lang="en-US" sz="8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08000" y="1700280"/>
            <a:ext cx="5394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8200" spc="-1" strike="noStrike">
                <a:solidFill>
                  <a:srgbClr val="000000"/>
                </a:solidFill>
                <a:latin typeface="Century Gothic"/>
              </a:rPr>
              <a:t>πυραμίδα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91960" y="398520"/>
            <a:ext cx="8558280" cy="6065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entury Gothic"/>
              </a:rPr>
              <a:t>Κρέας, ψάρια, καρποί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στις παρακάτω πηγές του διαδικτύου θα βρείτε πληροφορίες για τη μεσογειακή διατροφή και τη θέση που κατέχει η ομάδα σας στη διατροφική πυραμίδα.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Μεσογειακή Διατροφή</a:t>
            </a:r>
            <a:br>
              <a:rPr sz="1600"/>
            </a:br>
            <a:r>
              <a:rPr b="0" lang="el-GR" sz="1600" spc="-1" strike="noStrike" u="sng">
                <a:solidFill>
                  <a:srgbClr val="009999"/>
                </a:solidFill>
                <a:uFillTx/>
                <a:latin typeface="Century Gothic"/>
                <a:hlinkClick r:id="rId3"/>
              </a:rPr>
              <a:t>Μεσογειακή Δίαιτα</a:t>
            </a:r>
            <a:br>
              <a:rPr sz="1600"/>
            </a:br>
            <a:r>
              <a:rPr b="0" lang="el-GR" sz="1600" spc="-1" strike="noStrike" u="sng">
                <a:solidFill>
                  <a:srgbClr val="009999"/>
                </a:solidFill>
                <a:uFillTx/>
                <a:latin typeface="Century Gothic"/>
                <a:hlinkClick r:id="rId4"/>
              </a:rPr>
              <a:t>Η πυραμίδα των τροφίμων </a:t>
            </a:r>
            <a:br>
              <a:rPr sz="1600"/>
            </a:br>
            <a:r>
              <a:rPr b="0" lang="el-GR" sz="1600" spc="-1" strike="noStrike" u="sng">
                <a:solidFill>
                  <a:srgbClr val="009999"/>
                </a:solidFill>
                <a:uFillTx/>
                <a:latin typeface="Century Gothic"/>
                <a:hlinkClick r:id="rId5"/>
              </a:rPr>
              <a:t>Η μεσογειακή διατροφή </a:t>
            </a:r>
            <a:br>
              <a:rPr sz="1600"/>
            </a:br>
            <a:r>
              <a:rPr b="0" lang="el-GR" sz="1600" spc="-1" strike="noStrike" u="sng">
                <a:solidFill>
                  <a:srgbClr val="009999"/>
                </a:solidFill>
                <a:uFillTx/>
                <a:latin typeface="Century Gothic"/>
                <a:hlinkClick r:id="rId6"/>
              </a:rPr>
              <a:t>ΨΑΡΙΑ: ΜΙΑ ΤΡΟΦΗ ΠΟΥ ΥΠΟΣΧΕΤΑΙ ΥΓΕΙΑ ΚΑΙ ΜΑΚΡΟΖΩΙΑ </a:t>
            </a:r>
            <a:br>
              <a:rPr sz="1600"/>
            </a:br>
            <a:r>
              <a:rPr b="0" lang="el-GR" sz="1600" spc="-1" strike="noStrike" u="sng">
                <a:solidFill>
                  <a:srgbClr val="009999"/>
                </a:solidFill>
                <a:uFillTx/>
                <a:latin typeface="Century Gothic"/>
                <a:hlinkClick r:id="rId7"/>
              </a:rPr>
              <a:t>H ΠΥΡΑΜΙΔΑ ΤΗΣ ΥΓΙΕΙΝΗΣ ΔΙΑΤΡΟΦΗΣ </a:t>
            </a:r>
            <a:r>
              <a:rPr b="0" lang="el-GR" sz="1600" spc="-1" strike="noStrike" u="sng">
                <a:solidFill>
                  <a:srgbClr val="009999"/>
                </a:solidFill>
                <a:uFillTx/>
                <a:latin typeface="Century Gothic"/>
                <a:hlinkClick r:id="rId8"/>
              </a:rPr>
              <a:t>Υγεία και διατροφή: Η Μεσογειακή δίαιτα</a:t>
            </a: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1600"/>
            </a:br>
            <a:r>
              <a:rPr b="0" lang="el-GR" sz="1600" spc="-1" strike="noStrike" u="sng">
                <a:solidFill>
                  <a:srgbClr val="009999"/>
                </a:solidFill>
                <a:uFillTx/>
                <a:latin typeface="Century Gothic"/>
                <a:hlinkClick r:id="rId9"/>
              </a:rPr>
              <a:t>Μεσογειακή Διατροφή: Ελαιόλαδο και Υγεία</a:t>
            </a: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1600"/>
            </a:br>
            <a:r>
              <a:rPr b="0" lang="el-GR" sz="1600" spc="-1" strike="noStrike" u="sng">
                <a:solidFill>
                  <a:srgbClr val="009999"/>
                </a:solidFill>
                <a:uFillTx/>
                <a:latin typeface="Century Gothic"/>
                <a:hlinkClick r:id="rId10"/>
              </a:rPr>
              <a:t>Η ΔΙΑΤΡΟΦΗ ΜΑΣ: ΜΕΣΟΓΕΙΑΚΗ ΔΙΑΤΡΟΦΗ (ΠΥΡΑΜΙΔΑ)</a:t>
            </a: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91960" y="398520"/>
            <a:ext cx="8558280" cy="60656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entury Gothic"/>
              </a:rPr>
              <a:t>Κρέας, ψάρια, καρποί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Όταν, λοιπόν, μελετήσετε τις πηγές των πληροφοριών σας και σημειώσετε αυτά που σας χρειάζονται, γράψτε ένα κείμενο που μπορεί να έχει την εξής δομή: 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Century Gothic"/>
              </a:rPr>
              <a:t>Τι προτείνει η μεσογειακή διατροφή;</a:t>
            </a:r>
            <a:br>
              <a:rPr sz="1600"/>
            </a:br>
            <a:r>
              <a:rPr b="1" lang="el-GR" sz="1600" spc="-1" strike="noStrike">
                <a:solidFill>
                  <a:srgbClr val="000000"/>
                </a:solidFill>
                <a:latin typeface="Century Gothic"/>
              </a:rPr>
              <a:t> Πόσες μερίδες από αυτή την ομάδα πρέπει να τρώμε ημερησίως ή εβδομαδιαίως ή μηνιαίως; </a:t>
            </a:r>
            <a:br>
              <a:rPr sz="1600"/>
            </a:br>
            <a:r>
              <a:rPr b="1" lang="el-GR" sz="1600" spc="-1" strike="noStrike">
                <a:solidFill>
                  <a:srgbClr val="000000"/>
                </a:solidFill>
                <a:latin typeface="Century Gothic"/>
              </a:rPr>
              <a:t> Ποια θέση κατέχει αυτή η ομάδα στη διατροφική πυραμίδα και γιατί; </a:t>
            </a:r>
            <a:br>
              <a:rPr sz="1600"/>
            </a:br>
            <a:r>
              <a:rPr b="1" lang="el-GR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91960" y="398520"/>
            <a:ext cx="8558280" cy="60656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entury Gothic"/>
              </a:rPr>
              <a:t>Γάλα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Century Gothic"/>
              </a:rPr>
              <a:t>γιαούρτι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Century Gothic"/>
              </a:rPr>
              <a:t>και τυρί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στις παρακάτω πηγές του διαδικτύου θα βρείτε πληροφορίες για τη μεσογειακή διατροφή και τη θέση που κατέχει η ομάδα σας στη διατροφική πυραμίδα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H ΠΥΡΑΜΙΔΑ ΤΗΣ ΥΓΙΕΙΝΗΣ ΔΙΑΤΡΟΦΗΣ </a:t>
            </a:r>
            <a:br>
              <a:rPr sz="1600"/>
            </a:br>
            <a:r>
              <a:rPr b="0" lang="el-GR" sz="1600" spc="-1" strike="noStrike" u="sng">
                <a:solidFill>
                  <a:srgbClr val="009999"/>
                </a:solidFill>
                <a:uFillTx/>
                <a:latin typeface="Century Gothic"/>
                <a:hlinkClick r:id="rId3"/>
              </a:rPr>
              <a:t>Μεσογειακή Διατροφή</a:t>
            </a:r>
            <a:br>
              <a:rPr sz="1600"/>
            </a:br>
            <a:r>
              <a:rPr b="0" lang="el-GR" sz="1600" spc="-1" strike="noStrike" u="sng">
                <a:solidFill>
                  <a:srgbClr val="009999"/>
                </a:solidFill>
                <a:uFillTx/>
                <a:latin typeface="Century Gothic"/>
                <a:hlinkClick r:id="rId4"/>
              </a:rPr>
              <a:t>Μεσογειακή Δίαιτα</a:t>
            </a:r>
            <a:br>
              <a:rPr sz="1600"/>
            </a:br>
            <a:r>
              <a:rPr b="0" lang="el-GR" sz="1600" spc="-1" strike="noStrike" u="sng">
                <a:solidFill>
                  <a:srgbClr val="009999"/>
                </a:solidFill>
                <a:uFillTx/>
                <a:latin typeface="Century Gothic"/>
                <a:hlinkClick r:id="rId5"/>
              </a:rPr>
              <a:t>Η πυραμίδα των τροφίμων </a:t>
            </a:r>
            <a:br>
              <a:rPr sz="1600"/>
            </a:br>
            <a:r>
              <a:rPr b="0" lang="el-GR" sz="1600" spc="-1" strike="noStrike" u="sng">
                <a:solidFill>
                  <a:srgbClr val="009999"/>
                </a:solidFill>
                <a:uFillTx/>
                <a:latin typeface="Century Gothic"/>
                <a:hlinkClick r:id="rId6"/>
              </a:rPr>
              <a:t>Η μεσογειακή διατροφή </a:t>
            </a:r>
            <a:br>
              <a:rPr sz="1600"/>
            </a:br>
            <a:r>
              <a:rPr b="0" lang="el-GR" sz="1600" spc="-1" strike="noStrike" u="sng">
                <a:solidFill>
                  <a:srgbClr val="009999"/>
                </a:solidFill>
                <a:uFillTx/>
                <a:latin typeface="Century Gothic"/>
                <a:hlinkClick r:id="rId7"/>
              </a:rPr>
              <a:t>ΤΑ ΠΑΝΤΑ ΓΙΑ ΤΟ ΤΥΡΙ (#1)</a:t>
            </a: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1600"/>
            </a:br>
            <a:r>
              <a:rPr b="0" lang="el-GR" sz="1600" spc="-1" strike="noStrike" u="sng">
                <a:solidFill>
                  <a:srgbClr val="009999"/>
                </a:solidFill>
                <a:uFillTx/>
                <a:latin typeface="Century Gothic"/>
                <a:hlinkClick r:id="rId8"/>
              </a:rPr>
              <a:t>ΤΑ ΠΑΝΤΑ ΓΙΑ ΤΟ ΤΥΡΙ (#2)</a:t>
            </a: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1960" y="398520"/>
            <a:ext cx="8558280" cy="60656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entury Gothic"/>
              </a:rPr>
              <a:t>Γάλα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Century Gothic"/>
              </a:rPr>
              <a:t>γιαούρτι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Century Gothic"/>
              </a:rPr>
              <a:t>και τυρί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Όταν, λοιπόν, μελετήσετε τις πηγές των πληροφοριών σας και σημειώσετε αυτά που σας χρειάζονται, γράψτε ένα κείμενο που μπορεί να έχει την εξής δομή: 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Century Gothic"/>
              </a:rPr>
              <a:t>Τι προτείνει η μεσογειακή διατροφή;</a:t>
            </a:r>
            <a:br>
              <a:rPr sz="1600"/>
            </a:br>
            <a:r>
              <a:rPr b="1" lang="el-GR" sz="1600" spc="-1" strike="noStrike">
                <a:solidFill>
                  <a:srgbClr val="000000"/>
                </a:solidFill>
                <a:latin typeface="Century Gothic"/>
              </a:rPr>
              <a:t> Πόσες μερίδες από αυτή την ομάδα πρέπει να τρώμε ημερησίως ή εβδομαδιαίως ή μηνιαίως; </a:t>
            </a:r>
            <a:br>
              <a:rPr sz="1600"/>
            </a:br>
            <a:r>
              <a:rPr b="1" lang="el-GR" sz="1600" spc="-1" strike="noStrike">
                <a:solidFill>
                  <a:srgbClr val="000000"/>
                </a:solidFill>
                <a:latin typeface="Century Gothic"/>
              </a:rPr>
              <a:t> Ποια θέση κατέχει αυτή η ομάδα στη διατροφική πυραμίδα και γιατί; </a:t>
            </a:r>
            <a:br>
              <a:rPr sz="1600"/>
            </a:br>
            <a:r>
              <a:rPr b="1" lang="el-GR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91960" y="398520"/>
            <a:ext cx="8558280" cy="60656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entury Gothic"/>
              </a:rPr>
              <a:t>Ομάδα αμύλου και ψωμιού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στις παρακάτω πηγές του διαδικτύου θα βρείτε πληροφορίες για τη μεσογειακή διατροφή και τη θέση που κατέχει η ομάδα σας στη διατροφική πυραμίδα.</a:t>
            </a:r>
            <a:br>
              <a:rPr sz="1600"/>
            </a:br>
            <a:r>
              <a:rPr b="0" lang="el-GR" sz="16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H ΠΥΡΑΜΙΔΑ ΤΗΣ ΥΓΙΕΙΝΗΣ ΔΙΑΤΡΟΦΗΣ </a:t>
            </a:r>
            <a:br>
              <a:rPr sz="1600"/>
            </a:br>
            <a:r>
              <a:rPr b="0" lang="el-GR" sz="1600" spc="-1" strike="noStrike" u="sng">
                <a:solidFill>
                  <a:srgbClr val="009999"/>
                </a:solidFill>
                <a:uFillTx/>
                <a:latin typeface="Century Gothic"/>
                <a:hlinkClick r:id="rId3"/>
              </a:rPr>
              <a:t>Μεσογειακή Διατροφή</a:t>
            </a:r>
            <a:br>
              <a:rPr sz="1600"/>
            </a:br>
            <a:r>
              <a:rPr b="0" lang="el-GR" sz="1600" spc="-1" strike="noStrike" u="sng">
                <a:solidFill>
                  <a:srgbClr val="009999"/>
                </a:solidFill>
                <a:uFillTx/>
                <a:latin typeface="Century Gothic"/>
                <a:hlinkClick r:id="rId4"/>
              </a:rPr>
              <a:t>Μεσογειακή Δίαιτα</a:t>
            </a:r>
            <a:br>
              <a:rPr sz="1600"/>
            </a:br>
            <a:r>
              <a:rPr b="0" lang="el-GR" sz="1600" spc="-1" strike="noStrike" u="sng">
                <a:solidFill>
                  <a:srgbClr val="009999"/>
                </a:solidFill>
                <a:uFillTx/>
                <a:latin typeface="Century Gothic"/>
                <a:hlinkClick r:id="rId5"/>
              </a:rPr>
              <a:t>Η πυραμίδα των τροφίμων </a:t>
            </a:r>
            <a:br>
              <a:rPr sz="1600"/>
            </a:br>
            <a:r>
              <a:rPr b="0" lang="el-GR" sz="1600" spc="-1" strike="noStrike" u="sng">
                <a:solidFill>
                  <a:srgbClr val="009999"/>
                </a:solidFill>
                <a:uFillTx/>
                <a:latin typeface="Century Gothic"/>
                <a:hlinkClick r:id="rId6"/>
              </a:rPr>
              <a:t>Η μεσογειακή διατροφή </a:t>
            </a:r>
            <a:br>
              <a:rPr sz="1600"/>
            </a:br>
            <a:r>
              <a:rPr b="0" lang="el-GR" sz="1600" spc="-1" strike="noStrike" u="sng">
                <a:solidFill>
                  <a:srgbClr val="009999"/>
                </a:solidFill>
                <a:uFillTx/>
                <a:latin typeface="Century Gothic"/>
                <a:hlinkClick r:id="rId7"/>
              </a:rPr>
              <a:t>ΑΝΑΚΑΛΥΠΤΟΥΜΕ ΤΑ ΟΣΠΡΙΑ </a:t>
            </a:r>
            <a:br>
              <a:rPr sz="1600"/>
            </a:br>
            <a:r>
              <a:rPr b="0" lang="el-GR" sz="1600" spc="-1" strike="noStrike" u="sng">
                <a:solidFill>
                  <a:srgbClr val="009999"/>
                </a:solidFill>
                <a:uFillTx/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91960" y="398520"/>
            <a:ext cx="8558280" cy="60656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entury Gothic"/>
              </a:rPr>
              <a:t>Ομάδα αμύλου και ψωμιού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Αφού μελετήσετε τις πηγές των πληροφοριών σας και σημειώσετε αυτά που σας χρειάζονται, γράψτε ένα κείμενο που μπορεί να έχει την εξής δομή: 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Century Gothic"/>
              </a:rPr>
              <a:t>Τι προτείνει η μεσογειακή διατροφή;</a:t>
            </a:r>
            <a:br>
              <a:rPr sz="1600"/>
            </a:br>
            <a:r>
              <a:rPr b="1" lang="el-GR" sz="1600" spc="-1" strike="noStrike">
                <a:solidFill>
                  <a:srgbClr val="000000"/>
                </a:solidFill>
                <a:latin typeface="Century Gothic"/>
              </a:rPr>
              <a:t> Πόσες μερίδες από αυτή την ομάδα πρέπει να τρώμε ημερησίως ή εβδομαδιαίως ή μηνιαίως; </a:t>
            </a:r>
            <a:br>
              <a:rPr sz="1600"/>
            </a:br>
            <a:r>
              <a:rPr b="1" lang="el-GR" sz="1600" spc="-1" strike="noStrike">
                <a:solidFill>
                  <a:srgbClr val="000000"/>
                </a:solidFill>
                <a:latin typeface="Century Gothic"/>
              </a:rPr>
              <a:t> Ποια θέση κατέχει αυτή η ομάδα στη διατροφική πυραμίδα και γιατί; </a:t>
            </a:r>
            <a:br>
              <a:rPr sz="1600"/>
            </a:br>
            <a:r>
              <a:rPr b="1" lang="el-GR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91960" y="398520"/>
            <a:ext cx="8558280" cy="60656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entury Gothic"/>
              </a:rPr>
              <a:t>Λίπη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Century Gothic"/>
              </a:rPr>
              <a:t>έλαια και γλυκά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στις παρακάτω πηγές του διαδικτύου θα βρείτε πληροφορίες για τη μεσογειακή διατροφή και τη θέση που κατέχει η ομάδα σας στη διατροφική πυραμίδα.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Μεσογειακή Διατροφή</a:t>
            </a:r>
            <a:br>
              <a:rPr sz="1600"/>
            </a:br>
            <a:r>
              <a:rPr b="0" lang="el-GR" sz="1600" spc="-1" strike="noStrike" u="sng">
                <a:solidFill>
                  <a:srgbClr val="009999"/>
                </a:solidFill>
                <a:uFillTx/>
                <a:latin typeface="Century Gothic"/>
                <a:hlinkClick r:id="rId3"/>
              </a:rPr>
              <a:t>Μεσογειακή Δίαιτα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Η πυραμίδα των τροφίμων 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Η μεσογειακή διατροφή 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Τα ελαιόλαδο σώζει καρδιές - τώρα και με τη βούλα του FDA 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ΧΡΗΣΕΙΣ ΕΛΑΙΟΛΑΔΟΥ 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Γνωριμία με την ελιά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Η κατανάλωση του ελαιολάδου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91960" y="398520"/>
            <a:ext cx="8558280" cy="60656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entury Gothic"/>
              </a:rPr>
              <a:t>Λίπη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Century Gothic"/>
              </a:rPr>
              <a:t>έλαια και γλυκά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Αφού μελετήσετε τις πηγές των πληροφοριών σας και σημειώσετε αυτά που σας χρειάζονται, γράψτε ένα κείμενο που μπορεί να έχει την εξής δομή: 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Century Gothic"/>
              </a:rPr>
              <a:t>Τι προτείνει η μεσογειακή διατροφή;</a:t>
            </a:r>
            <a:br>
              <a:rPr sz="1600"/>
            </a:br>
            <a:r>
              <a:rPr b="1" lang="el-GR" sz="1600" spc="-1" strike="noStrike">
                <a:solidFill>
                  <a:srgbClr val="000000"/>
                </a:solidFill>
                <a:latin typeface="Century Gothic"/>
              </a:rPr>
              <a:t> Πόσες μερίδες από αυτή την ομάδα πρέπει να τρώμε ημερησίως ή εβδομαδιαίως ή μηνιαίως; </a:t>
            </a:r>
            <a:br>
              <a:rPr sz="1600"/>
            </a:br>
            <a:r>
              <a:rPr b="1" lang="el-GR" sz="1600" spc="-1" strike="noStrike">
                <a:solidFill>
                  <a:srgbClr val="000000"/>
                </a:solidFill>
                <a:latin typeface="Century Gothic"/>
              </a:rPr>
              <a:t> Ποια θέση κατέχει αυτή η ομάδα στη διατροφική πυραμίδα και γιατί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entury Gothic"/>
              </a:rPr>
              <a:t>Συμπέρασμα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Είμαστε ότι τρώμε;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743200" y="4390920"/>
            <a:ext cx="3429000" cy="13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371600" y="3276720"/>
            <a:ext cx="6324480" cy="2433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entury Gothic"/>
              </a:rPr>
              <a:t>Τρώγοντας σωστά καθημερινά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Με τη συγκεκριμένη δραστηριότητα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θα γνωρίσετε τι συνδυασμούς τροφών περιλαμβάνει η </a:t>
            </a:r>
            <a:r>
              <a:rPr b="1" lang="el-GR" sz="1600" spc="-1" strike="noStrike">
                <a:solidFill>
                  <a:srgbClr val="000000"/>
                </a:solidFill>
                <a:latin typeface="Century Gothic"/>
              </a:rPr>
              <a:t>μεσογειακή διατροφή</a:t>
            </a: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 και αν αυτό το διαιτολόγιο ωφελεί την υγεία.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θα σχηματίσετε και θα συμπληρώσετε σωστά τα κομμάτια της </a:t>
            </a:r>
            <a:r>
              <a:rPr b="1" lang="el-GR" sz="1600" spc="-1" strike="noStrike">
                <a:solidFill>
                  <a:srgbClr val="000000"/>
                </a:solidFill>
                <a:latin typeface="Century Gothic"/>
              </a:rPr>
              <a:t>διατροφικής πυραμίδας</a:t>
            </a: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, ώστε να γνωρίζετε ποιες ομάδες τροφίμων πρέπει να συμπεριλαμβάνονται στο καθημερινό, εβδομαδιαίο και μηνιαίο διαιτολόγιό σας. 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52480" y="1201680"/>
            <a:ext cx="5399280" cy="4589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entury Gothic"/>
              </a:rPr>
              <a:t>Η πυραμίδα της τροφής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"/>
          <p:cNvSpPr/>
          <p:nvPr/>
        </p:nvSpPr>
        <p:spPr>
          <a:xfrm>
            <a:off x="5726160" y="182880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Century Gothic"/>
              </a:rPr>
              <a:t>Λίπη, έλαια και γλυκά</a:t>
            </a:r>
            <a:br>
              <a:rPr sz="1000"/>
            </a:br>
            <a:r>
              <a:rPr b="0" lang="el-GR" sz="1000" spc="-1" strike="noStrike">
                <a:solidFill>
                  <a:srgbClr val="000000"/>
                </a:solidFill>
                <a:latin typeface="Century Gothic"/>
              </a:rPr>
              <a:t>Σποραδική χρήσ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24480" y="2819520"/>
            <a:ext cx="1447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Century Gothic"/>
              </a:rPr>
              <a:t>Κρέας, πουλερικά, ψάρια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, Dry Beans, </a:t>
            </a:r>
            <a:r>
              <a:rPr b="0" lang="el-GR" sz="1000" spc="-1" strike="noStrike">
                <a:solidFill>
                  <a:srgbClr val="000000"/>
                </a:solidFill>
                <a:latin typeface="Century Gothic"/>
              </a:rPr>
              <a:t>Αυγά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2-3 </a:t>
            </a:r>
            <a:r>
              <a:rPr b="1" lang="el-GR" sz="1000" spc="-1" strike="noStrike">
                <a:solidFill>
                  <a:srgbClr val="000000"/>
                </a:solidFill>
                <a:latin typeface="Century Gothic"/>
              </a:rPr>
              <a:t>μερίδε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90880" y="27496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Century Gothic"/>
              </a:rPr>
              <a:t>Γάλα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0" lang="el-GR" sz="1000" spc="-1" strike="noStrike">
                <a:solidFill>
                  <a:srgbClr val="000000"/>
                </a:solidFill>
                <a:latin typeface="Century Gothic"/>
              </a:rPr>
              <a:t>Γιαούρτια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 &amp; </a:t>
            </a:r>
            <a:r>
              <a:rPr b="0" lang="el-GR" sz="1000" spc="-1" strike="noStrike">
                <a:solidFill>
                  <a:srgbClr val="000000"/>
                </a:solidFill>
                <a:latin typeface="Century Gothic"/>
              </a:rPr>
              <a:t>Τυριά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2-3 </a:t>
            </a:r>
            <a:r>
              <a:rPr b="1" lang="el-GR" sz="1000" spc="-1" strike="noStrike">
                <a:solidFill>
                  <a:srgbClr val="000000"/>
                </a:solidFill>
                <a:latin typeface="Century Gothic"/>
              </a:rPr>
              <a:t>μερίδε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03280" y="383220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Century Gothic"/>
              </a:rPr>
              <a:t>Λαχανικά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3-5 </a:t>
            </a:r>
            <a:r>
              <a:rPr b="1" lang="el-GR" sz="1000" spc="-1" strike="noStrike">
                <a:solidFill>
                  <a:srgbClr val="000000"/>
                </a:solidFill>
                <a:latin typeface="Century Gothic"/>
              </a:rPr>
              <a:t>μερίδε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8840" y="392904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Century Gothic"/>
              </a:rPr>
              <a:t>Φρούτα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2-4 </a:t>
            </a:r>
            <a:r>
              <a:rPr b="1" lang="el-GR" sz="1000" spc="-1" strike="noStrike">
                <a:solidFill>
                  <a:srgbClr val="000000"/>
                </a:solidFill>
                <a:latin typeface="Century Gothic"/>
              </a:rPr>
              <a:t>μερίδε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88320" y="4529160"/>
            <a:ext cx="1218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Century Gothic"/>
              </a:rPr>
              <a:t>Ψωμί, δημητριακά, ρύζι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 &amp; 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6-11 </a:t>
            </a:r>
            <a:r>
              <a:rPr b="1" lang="el-GR" sz="1000" spc="-1" strike="noStrike">
                <a:solidFill>
                  <a:srgbClr val="000000"/>
                </a:solidFill>
                <a:latin typeface="Century Gothic"/>
              </a:rPr>
              <a:t>μερίδε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895480" y="3868560"/>
            <a:ext cx="152280" cy="761760"/>
            <a:chOff x="2895480" y="3868560"/>
            <a:chExt cx="152280" cy="761760"/>
          </a:xfrm>
        </p:grpSpPr>
        <p:sp>
          <p:nvSpPr>
            <p:cNvPr id="93" name=""/>
            <p:cNvSpPr/>
            <p:nvPr/>
          </p:nvSpPr>
          <p:spPr>
            <a:xfrm>
              <a:off x="2895480" y="386856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895480" y="38685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95480" y="46303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352680" y="2801880"/>
            <a:ext cx="152280" cy="761760"/>
            <a:chOff x="3352680" y="2801880"/>
            <a:chExt cx="152280" cy="761760"/>
          </a:xfrm>
        </p:grpSpPr>
        <p:sp>
          <p:nvSpPr>
            <p:cNvPr id="97" name=""/>
            <p:cNvSpPr/>
            <p:nvPr/>
          </p:nvSpPr>
          <p:spPr>
            <a:xfrm>
              <a:off x="3352680" y="28018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52680" y="2801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52680" y="3563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705360" y="4859280"/>
            <a:ext cx="152280" cy="761760"/>
            <a:chOff x="6705360" y="4859280"/>
            <a:chExt cx="152280" cy="761760"/>
          </a:xfrm>
        </p:grpSpPr>
        <p:sp>
          <p:nvSpPr>
            <p:cNvPr id="101" name=""/>
            <p:cNvSpPr/>
            <p:nvPr/>
          </p:nvSpPr>
          <p:spPr>
            <a:xfrm>
              <a:off x="6857640" y="48592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705360" y="4859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6705360" y="56210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476760" y="3944880"/>
            <a:ext cx="152280" cy="761760"/>
            <a:chOff x="6476760" y="3944880"/>
            <a:chExt cx="152280" cy="761760"/>
          </a:xfrm>
        </p:grpSpPr>
        <p:sp>
          <p:nvSpPr>
            <p:cNvPr id="105" name=""/>
            <p:cNvSpPr/>
            <p:nvPr/>
          </p:nvSpPr>
          <p:spPr>
            <a:xfrm>
              <a:off x="6629040" y="39448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476760" y="394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476760" y="470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019560" y="2819520"/>
            <a:ext cx="152640" cy="896760"/>
            <a:chOff x="6019560" y="2819520"/>
            <a:chExt cx="152640" cy="896760"/>
          </a:xfrm>
        </p:grpSpPr>
        <p:sp>
          <p:nvSpPr>
            <p:cNvPr id="109" name=""/>
            <p:cNvSpPr/>
            <p:nvPr/>
          </p:nvSpPr>
          <p:spPr>
            <a:xfrm>
              <a:off x="6172200" y="2819520"/>
              <a:ext cx="0" cy="89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6019560" y="28195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6019560" y="3716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410440" y="1811160"/>
            <a:ext cx="152280" cy="761760"/>
            <a:chOff x="5410440" y="1811160"/>
            <a:chExt cx="152280" cy="761760"/>
          </a:xfrm>
        </p:grpSpPr>
        <p:sp>
          <p:nvSpPr>
            <p:cNvPr id="113" name=""/>
            <p:cNvSpPr/>
            <p:nvPr/>
          </p:nvSpPr>
          <p:spPr>
            <a:xfrm>
              <a:off x="5562720" y="181116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5410440" y="18111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5410440" y="25729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5562720" y="1981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30146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29400" y="4114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0" y="5029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971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91960" y="398520"/>
            <a:ext cx="8558280" cy="60656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entury Gothic"/>
              </a:rPr>
              <a:t>Φρούτα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Καταγράψτε ποια φρούτα υπάρχουν σε αφθονία στην περιοχή σας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Συζητήστε πόσες μερίδες φρούτων καταναλώνετε και σε ποιες ώρες της ημέρας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Αναζητήστε πληροφορίες στο διαδίκτυο και συζητήστε για τα οφέλη από την κατανάλωση φρούτων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Καταγράψτε ποια φρούτα προτιμούν τα μέλη της ομάδας σας. Ετοιμάστε μία παρουσίαση συλλέγοντας εικόνες από το διαδίκτυο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91960" y="398520"/>
            <a:ext cx="8558280" cy="6065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entury Gothic"/>
              </a:rPr>
              <a:t>Φρούτα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στις παρακάτω πηγές του διαδικτύου θα βρείτε πληροφορίες για τη μεσογειακή διατροφή και τη θέση που κατέχει η ομάδα σας στη διατροφική πυραμίδα.</a:t>
            </a:r>
            <a:br>
              <a:rPr sz="1600"/>
            </a:br>
            <a:r>
              <a:rPr b="0" lang="el-GR" sz="16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H ΠΥΡΑΜΙΔΑ ΤΗΣ ΥΓΙΕΙΝΗΣ ΔΙΑΤΡΟΦΗΣ </a:t>
            </a:r>
            <a:br>
              <a:rPr sz="1600"/>
            </a:br>
            <a:r>
              <a:rPr b="0" lang="el-GR" sz="1600" spc="-1" strike="noStrike" u="sng">
                <a:solidFill>
                  <a:srgbClr val="009999"/>
                </a:solidFill>
                <a:uFillTx/>
                <a:latin typeface="Century Gothic"/>
                <a:hlinkClick r:id="rId3"/>
              </a:rPr>
              <a:t>Μεσογειακή Διατροφή</a:t>
            </a:r>
            <a:br>
              <a:rPr sz="1600"/>
            </a:br>
            <a:r>
              <a:rPr b="0" lang="el-GR" sz="1600" spc="-1" strike="noStrike" u="sng">
                <a:solidFill>
                  <a:srgbClr val="009999"/>
                </a:solidFill>
                <a:uFillTx/>
                <a:latin typeface="Century Gothic"/>
                <a:hlinkClick r:id="rId4"/>
              </a:rPr>
              <a:t>Μεσογειακή Δίαιτα</a:t>
            </a:r>
            <a:br>
              <a:rPr sz="1600"/>
            </a:br>
            <a:r>
              <a:rPr b="0" lang="el-GR" sz="1600" spc="-1" strike="noStrike" u="sng">
                <a:solidFill>
                  <a:srgbClr val="009999"/>
                </a:solidFill>
                <a:uFillTx/>
                <a:latin typeface="Century Gothic"/>
                <a:hlinkClick r:id="rId5"/>
              </a:rPr>
              <a:t>Η πυραμίδα των τροφίμων </a:t>
            </a:r>
            <a:br>
              <a:rPr sz="1600"/>
            </a:br>
            <a:r>
              <a:rPr b="0" lang="el-GR" sz="1600" spc="-1" strike="noStrike" u="sng">
                <a:solidFill>
                  <a:srgbClr val="009999"/>
                </a:solidFill>
                <a:uFillTx/>
                <a:latin typeface="Century Gothic"/>
                <a:hlinkClick r:id="rId6"/>
              </a:rPr>
              <a:t>Η μεσογειακή διατροφή </a:t>
            </a:r>
            <a:br>
              <a:rPr sz="1600"/>
            </a:br>
            <a:r>
              <a:rPr b="0" lang="el-GR" sz="1600" spc="-1" strike="noStrike" u="sng">
                <a:solidFill>
                  <a:srgbClr val="009999"/>
                </a:solidFill>
                <a:uFillTx/>
                <a:latin typeface="Century Gothic"/>
                <a:hlinkClick r:id="rId7"/>
              </a:rPr>
              <a:t>ΠΟΡΤΟΚΑΛΙΑ... η δύναμη έχει χρώμα πορτοκαλί! </a:t>
            </a:r>
            <a:br>
              <a:rPr sz="1600"/>
            </a:br>
            <a:r>
              <a:rPr b="0" lang="el-GR" sz="1600" spc="-1" strike="noStrike" u="sng">
                <a:solidFill>
                  <a:srgbClr val="009999"/>
                </a:solidFill>
                <a:uFillTx/>
                <a:latin typeface="Century Gothic"/>
                <a:hlinkClick r:id="rId8"/>
              </a:rPr>
              <a:t>ΜΗΛΑ... Ο άρχοντας του χειμώνα! </a:t>
            </a:r>
            <a:br>
              <a:rPr sz="1600"/>
            </a:br>
            <a:r>
              <a:rPr b="0" lang="el-GR" sz="1600" spc="-1" strike="noStrike" u="sng">
                <a:solidFill>
                  <a:srgbClr val="009999"/>
                </a:solidFill>
                <a:uFillTx/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91960" y="398520"/>
            <a:ext cx="8558280" cy="60656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entury Gothic"/>
              </a:rPr>
              <a:t>Φρούτα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Όταν, λοιπόν, μελετήσετε τις πηγές των πληροφοριών σας και σημειώσετε αυτά που σας χρειάζονται, γράψτε ένα κείμενο που μπορεί να έχει την εξής δομή: 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Century Gothic"/>
              </a:rPr>
              <a:t>Τι προτείνει η μεσογειακή διατροφή;</a:t>
            </a:r>
            <a:br>
              <a:rPr sz="1600"/>
            </a:br>
            <a:r>
              <a:rPr b="1" lang="el-GR" sz="1600" spc="-1" strike="noStrike">
                <a:solidFill>
                  <a:srgbClr val="000000"/>
                </a:solidFill>
                <a:latin typeface="Century Gothic"/>
              </a:rPr>
              <a:t> Πόσες μερίδες από αυτή την ομάδα πρέπει να τρώμε ημερησίως ή εβδομαδιαίως ή μηνιαίως; </a:t>
            </a:r>
            <a:br>
              <a:rPr sz="1600"/>
            </a:br>
            <a:r>
              <a:rPr b="1" lang="el-GR" sz="1600" spc="-1" strike="noStrike">
                <a:solidFill>
                  <a:srgbClr val="000000"/>
                </a:solidFill>
                <a:latin typeface="Century Gothic"/>
              </a:rPr>
              <a:t> Ποια θέση κατέχει αυτή η ομάδα στη διατροφική πυραμίδα και γιατί; </a:t>
            </a:r>
            <a:br>
              <a:rPr sz="1600"/>
            </a:br>
            <a:r>
              <a:rPr b="1" lang="el-GR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91960" y="398520"/>
            <a:ext cx="8558280" cy="6065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entury Gothic"/>
              </a:rPr>
              <a:t>Λαχανικά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Καταγράψτε ποια λαχανικά υπάρχουν σε αφθονία στην περιοχή σας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Συζητήστε πόσες μερίδες λαχανικών καταναλώνετε και σε ποιες ώρες της ημέρας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Αναζητήστε πληροφορίες στο διαδίκτυο και συζητήστε για τα οφέλη από την κατανάλωση λαχανικών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Καταγράψτε ποια λαχανικά προτιμούν τα μέλη της ομάδας σας. Ετοιμάστε μία παρουσίαση συλλέγοντας εικόνες από το διαδίκτυο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91960" y="398520"/>
            <a:ext cx="8558280" cy="60656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entury Gothic"/>
              </a:rPr>
              <a:t>Λαχανικά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στις παρακάτω πηγές του διαδικτύου θα βρείτε πληροφορίες για τη μεσογειακή διατροφή και τη θέση που κατέχει η ομάδα σας στη διατροφική πυραμίδα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H ΠΥΡΑΜΙΔΑ ΤΗΣ ΥΓΙΕΙΝΗΣ ΔΙΑΤΡΟΦΗΣ </a:t>
            </a:r>
            <a:br>
              <a:rPr sz="1600"/>
            </a:br>
            <a:r>
              <a:rPr b="0" lang="el-GR" sz="1600" spc="-1" strike="noStrike" u="sng">
                <a:solidFill>
                  <a:srgbClr val="009999"/>
                </a:solidFill>
                <a:uFillTx/>
                <a:latin typeface="Century Gothic"/>
                <a:hlinkClick r:id="rId3"/>
              </a:rPr>
              <a:t>Μεσογειακή Διατροφή</a:t>
            </a:r>
            <a:br>
              <a:rPr sz="1600"/>
            </a:br>
            <a:r>
              <a:rPr b="0" lang="el-GR" sz="1600" spc="-1" strike="noStrike" u="sng">
                <a:solidFill>
                  <a:srgbClr val="009999"/>
                </a:solidFill>
                <a:uFillTx/>
                <a:latin typeface="Century Gothic"/>
                <a:hlinkClick r:id="rId4"/>
              </a:rPr>
              <a:t>Μεσογειακή Δίαιτα</a:t>
            </a:r>
            <a:br>
              <a:rPr sz="1600"/>
            </a:br>
            <a:r>
              <a:rPr b="0" lang="el-GR" sz="1600" spc="-1" strike="noStrike" u="sng">
                <a:solidFill>
                  <a:srgbClr val="009999"/>
                </a:solidFill>
                <a:uFillTx/>
                <a:latin typeface="Century Gothic"/>
                <a:hlinkClick r:id="rId5"/>
              </a:rPr>
              <a:t>Η πυραμίδα των τροφίμων </a:t>
            </a:r>
            <a:br>
              <a:rPr sz="1600"/>
            </a:br>
            <a:r>
              <a:rPr b="0" lang="el-GR" sz="1600" spc="-1" strike="noStrike" u="sng">
                <a:solidFill>
                  <a:srgbClr val="009999"/>
                </a:solidFill>
                <a:uFillTx/>
                <a:latin typeface="Century Gothic"/>
                <a:hlinkClick r:id="rId6"/>
              </a:rPr>
              <a:t>Η μεσογειακή διατροφή </a:t>
            </a:r>
            <a:br>
              <a:rPr sz="1600"/>
            </a:br>
            <a:r>
              <a:rPr b="0" lang="el-GR" sz="1600" spc="-1" strike="noStrike" u="sng">
                <a:solidFill>
                  <a:srgbClr val="009999"/>
                </a:solidFill>
                <a:uFillTx/>
                <a:latin typeface="Century Gothic"/>
                <a:hlinkClick r:id="rId7"/>
              </a:rPr>
              <a:t>ΠΙΠΕΡΙΕΣ</a:t>
            </a: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91960" y="398520"/>
            <a:ext cx="8558280" cy="60656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entury Gothic"/>
              </a:rPr>
              <a:t>Λαχανικά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Όταν, λοιπόν, μελετήσετε τις πηγές των πληροφοριών σας και σημειώσετε αυτά που σας χρειάζονται, γράψτε ένα κείμενο που μπορεί να έχει την εξής δομή: 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Century Gothic"/>
              </a:rPr>
              <a:t>Τι προτείνει η μεσογειακή διατροφή;</a:t>
            </a:r>
            <a:br>
              <a:rPr sz="1600"/>
            </a:br>
            <a:r>
              <a:rPr b="1" lang="el-GR" sz="1600" spc="-1" strike="noStrike">
                <a:solidFill>
                  <a:srgbClr val="000000"/>
                </a:solidFill>
                <a:latin typeface="Century Gothic"/>
              </a:rPr>
              <a:t> Πόσες μερίδες από αυτή την ομάδα πρέπει να τρώμε ημερησίως ή εβδομαδιαίως ή μηνιαίως; </a:t>
            </a:r>
            <a:br>
              <a:rPr sz="1600"/>
            </a:br>
            <a:r>
              <a:rPr b="1" lang="el-GR" sz="1600" spc="-1" strike="noStrike">
                <a:solidFill>
                  <a:srgbClr val="000000"/>
                </a:solidFill>
                <a:latin typeface="Century Gothic"/>
              </a:rPr>
              <a:t> Ποια θέση κατέχει αυτή η ομάδα στη διατροφική πυραμίδα και γιατί; </a:t>
            </a:r>
            <a:br>
              <a:rPr sz="1600"/>
            </a:br>
            <a:r>
              <a:rPr b="1" lang="el-GR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1:15:08Z</dcterms:created>
  <dc:creator>YPEPTH</dc:creator>
  <dc:description/>
  <cp:keywords/>
  <dc:language>en-US</dc:language>
  <cp:lastModifiedBy>Theresa Yiakoumatou</cp:lastModifiedBy>
  <dcterms:modified xsi:type="dcterms:W3CDTF">2006-11-01T13:20:48Z</dcterms:modified>
  <cp:revision>20</cp:revision>
  <dc:subject/>
  <dc:title>th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8041033</vt:lpwstr>
  </property>
</Properties>
</file>